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E20A-844E-47C3-BEAD-27FE09D1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D0F3-348A-4661-A724-4D0D01439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BA2-D024-4AB3-8037-D8ED631D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6DA-3673-44AD-B276-1BA3D4FB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28D-DEB4-4A31-B147-5AE8B1B0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828-8959-45E9-B74C-F13419C4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71C-42EB-44E0-AFD2-C4CA3641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BEF-1920-4086-B1D0-0061EA29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A104-0FFF-41DA-A89E-BCE1C68F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8B51-F32B-4006-A6B4-4DF43F55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1786-DD1C-42C2-8F39-42D4A8C5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FBE7-444F-4365-A661-49A5CD0F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3D4-22FB-49B0-B4E2-94766BAD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DDF-052A-4AAA-8B6E-508A4BE5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9D7C-4AD2-4FD5-8353-291057B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7319-B8DC-4663-961A-8CFB59A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B7A9-4F58-4D78-B088-44B2B279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3BD6-57C4-4132-9B4E-8A3E6846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7861-1237-4CF9-ABF1-246E0F86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B25-7B24-4544-BE3C-9CB9AD7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056-0D02-44AE-AAC5-9DB7739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F0D-A0FE-46A3-AF5D-EF5BDEDE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256-B544-4E35-8B4C-AD9BD364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DED-2E4A-42BF-9665-B2FC6CB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CFA-D2F4-431E-8925-0E3CB01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F54-6228-4D20-BB70-C9ACDBE6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AC6F-38AE-4461-9444-7A26682E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CECF-B163-4A8A-9610-2BD8D0FD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Hands-On Activity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2057040"/>
            <a:ext cx="594864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milk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alvin milk"/>
          <p:cNvPicPr/>
          <p:nvPr/>
        </p:nvPicPr>
        <p:blipFill>
          <a:blip r:embed="rId3"/>
          <a:srcRect l="0" t="0" r="0" b="5486"/>
          <a:stretch/>
        </p:blipFill>
        <p:spPr>
          <a:xfrm>
            <a:off x="6477120" y="3352680"/>
            <a:ext cx="230004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914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Let’s separate the major components of milk!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873160" cy="202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19520" y="2971800"/>
            <a:ext cx="1793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09680" y="1971720"/>
            <a:ext cx="6400080" cy="3618720"/>
            <a:chOff x="2209680" y="1971720"/>
            <a:chExt cx="6400080" cy="3618720"/>
          </a:xfrm>
        </p:grpSpPr>
        <p:cxnSp>
          <p:nvCxnSpPr>
            <p:cNvPr id="97" name="_s71685"/>
            <p:cNvCxnSpPr>
              <a:stCxn id="98" idx="0"/>
              <a:endCxn id="99" idx="2"/>
            </p:cNvCxnSpPr>
            <p:nvPr/>
          </p:nvCxnSpPr>
          <p:spPr>
            <a:xfrm flipV="1" rot="16200000">
              <a:off x="6540840" y="378000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71686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5183280" y="378072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71687"/>
            <p:cNvCxnSpPr>
              <a:stCxn id="99" idx="0"/>
              <a:endCxn id="103" idx="2"/>
            </p:cNvCxnSpPr>
            <p:nvPr/>
          </p:nvCxnSpPr>
          <p:spPr>
            <a:xfrm flipV="1" rot="16200000">
              <a:off x="5183280" y="242316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71688"/>
            <p:cNvCxnSpPr>
              <a:stCxn id="105" idx="0"/>
              <a:endCxn id="103" idx="2"/>
            </p:cNvCxnSpPr>
            <p:nvPr/>
          </p:nvCxnSpPr>
          <p:spPr>
            <a:xfrm flipH="1" flipV="1" rot="5400000">
              <a:off x="3825720" y="242316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71689"/>
            <p:cNvSpPr/>
            <p:nvPr/>
          </p:nvSpPr>
          <p:spPr>
            <a:xfrm>
              <a:off x="3567600" y="197172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71690"/>
            <p:cNvSpPr/>
            <p:nvPr/>
          </p:nvSpPr>
          <p:spPr>
            <a:xfrm>
              <a:off x="220968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71691"/>
            <p:cNvSpPr/>
            <p:nvPr/>
          </p:nvSpPr>
          <p:spPr>
            <a:xfrm>
              <a:off x="492480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71692"/>
            <p:cNvSpPr/>
            <p:nvPr/>
          </p:nvSpPr>
          <p:spPr>
            <a:xfrm>
              <a:off x="356760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71693"/>
            <p:cNvSpPr/>
            <p:nvPr/>
          </p:nvSpPr>
          <p:spPr>
            <a:xfrm>
              <a:off x="628272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0" y="4267080"/>
            <a:ext cx="65530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Separating Curds and Whey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209680" y="2057400"/>
            <a:ext cx="6248160" cy="3533040"/>
            <a:chOff x="2209680" y="2057400"/>
            <a:chExt cx="6248160" cy="3533040"/>
          </a:xfrm>
        </p:grpSpPr>
        <p:cxnSp>
          <p:nvCxnSpPr>
            <p:cNvPr id="112" name="_s81925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6437880" y="38228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81926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5112360" y="382356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81927"/>
            <p:cNvCxnSpPr>
              <a:stCxn id="114" idx="0"/>
              <a:endCxn id="118" idx="2"/>
            </p:cNvCxnSpPr>
            <p:nvPr/>
          </p:nvCxnSpPr>
          <p:spPr>
            <a:xfrm flipV="1" rot="16200000">
              <a:off x="5112360" y="249804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81928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3787200" y="24980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81929"/>
            <p:cNvSpPr/>
            <p:nvPr/>
          </p:nvSpPr>
          <p:spPr>
            <a:xfrm>
              <a:off x="3535200" y="20574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1930"/>
            <p:cNvSpPr/>
            <p:nvPr/>
          </p:nvSpPr>
          <p:spPr>
            <a:xfrm>
              <a:off x="220968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81931"/>
            <p:cNvSpPr/>
            <p:nvPr/>
          </p:nvSpPr>
          <p:spPr>
            <a:xfrm>
              <a:off x="486000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81932"/>
            <p:cNvSpPr/>
            <p:nvPr/>
          </p:nvSpPr>
          <p:spPr>
            <a:xfrm>
              <a:off x="353520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81933"/>
            <p:cNvSpPr/>
            <p:nvPr/>
          </p:nvSpPr>
          <p:spPr>
            <a:xfrm>
              <a:off x="618588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acromolecules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in Milk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0720" y="21333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standard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mans use natural systems as resources for growth and developmen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erties of macromolecul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d components and origi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racteristics of mammal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Tahoma"/>
              </a:rPr>
              <a:t>Extensions</a:t>
            </a:r>
            <a:endParaRPr b="1" lang="en-US" sz="6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nalyze each milk phase for macromolecu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calculate the % of each macromolecu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pply separation techniques to other foo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research cheese mak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1:46Z</dcterms:created>
  <dc:creator>Cynthia J. Moore</dc:creator>
  <dc:description/>
  <dc:language>en-US</dc:language>
  <cp:lastModifiedBy>Cynthia Moore</cp:lastModifiedBy>
  <dcterms:modified xsi:type="dcterms:W3CDTF">2011-01-19T06:17:50Z</dcterms:modified>
  <cp:revision>39</cp:revision>
  <dc:subject/>
  <dc:title>Slide 1</dc:title>
</cp:coreProperties>
</file>